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A46-CFEA-43B3-9D53-85C22E40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53D-5C43-4CBE-A5A2-456A51F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164-F4A7-4425-A3C8-46DA9F0E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B6F-128B-4A2F-AC7C-5CC7A0CE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DBC-3580-4CB7-B0EC-C8527B1B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F1F-61F1-4463-9F5F-907F1B23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3F2-0E47-4EA0-9A76-CFB0379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BC5-D8A5-491A-AE52-E04A6F9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D72-60A3-4A06-B3D1-450C94DC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DDC-7EFD-499B-9BB9-6A433AA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D0F-2A19-4131-9EA6-94D2CD1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0D7-329B-4FD0-990D-41B0B27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E03-B1AA-4D09-9048-813A0DBE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cmuseumofhistory.org/collateral/orticles/504.americans.music.19205.pdf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51814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y: Jessica Micheli, Callie Oppenheimer, Savannah I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20239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00200" y="685800"/>
            <a:ext cx="4572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1920’s Mus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055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1920’s Americans entertained themselves at movies and sports events but they started listening to new types of music: soulful blues and jaz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ults heard the Blues and Jazz they were concerned about the popular music that their kids were listening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4572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New Rhythms in the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8055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nslaved Africans started the blues with work songs and field ch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essie Smith and Gertrude “Ma” Rainey sang sad songs to huge audiences in clubs on Chicago's South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They recorded their songs on African American labels for major record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ersonal vivid and highly symbo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Guitar, used it to fill the pauses in their sin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ecame hallmark of Jaz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43200" y="685800"/>
            <a:ext cx="28954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Blu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8055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rl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d North when African Americans migr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heet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strands of music from European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0’s Chicago Joseph “King” Oliver's Creole Jazz Band played for urban African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uis Armstrong played trumpet, most famous jazz musician of al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unique and highly devolve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ced the work of American compose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azz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8055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70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Young people enjoyed and old people thought of it as immoral shocking and scandal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irst started in a African American revue called “Runnin’ Wild” in 19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Social jazz dance originally a Southern black folk dan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8055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920’s equals “The Dance Age” and “The Jazz 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cord music was mainstream after the radio wa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radio brought new entertainment and advertising to a mass market and help the growth of the mass-market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radio came to isolated rural areas in the 1940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2120"/>
            <a:ext cx="63248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New Rhythms in the 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8055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uropean African styles is perhaps the most important factor of history in American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laved peoples and their decedents added fluid and expressive vocal styles and highly developed rhythm to European songs and instr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, a new African American music wa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1600" y="762120"/>
            <a:ext cx="63342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Music Style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8055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cmuseumofhistory.org/collateral/orticles/504.americans.music.19205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Odys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533520"/>
            <a:ext cx="39909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Work Cited P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</p:spTree>
  </p:cSld>
  <p:transition spd="slow">
    <p:diamond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1:31Z</dcterms:created>
  <dc:creator>TECH</dc:creator>
  <dc:description/>
  <dc:language>en-US</dc:language>
  <cp:lastModifiedBy>ASD</cp:lastModifiedBy>
  <dcterms:modified xsi:type="dcterms:W3CDTF">2010-06-22T21:12:33Z</dcterms:modified>
  <cp:revision>7</cp:revision>
  <dc:subject/>
  <dc:title>1920s Music</dc:title>
</cp:coreProperties>
</file>